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D8B9-EB9D-4DD7-B558-537FC09DD409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1DDF-64A3-4977-8F7A-FEC18D4F3A1C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67E1-C88C-4841-BE54-240DD8850ECF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26A8-9247-4147-A4DC-EFB6206DF720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3D38-C8B0-4881-825B-471B3C2D3AFA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D76-B881-4765-8D3B-B2252139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4292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C60-8E87-4084-9F71-C8E9C60C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4292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560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45C-EBF4-4381-9685-6411AE98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7092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985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4292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7092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985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7E7-F1FC-4D1B-9FFD-15FC914F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127F-E2DD-474A-803F-E4DED326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42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42B2-0BBB-4751-A5AE-9E0D8889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60F8-7059-4B96-9CE2-1AE8B2B9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D5CB-82EB-40FA-AD23-58CE7772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2ED1-7923-438B-9A34-A627202F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0FBD-DA96-448C-A604-70100A5A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292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0F9D-91CA-448A-A6CE-ADCFD192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42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114-B399-4858-B8F0-CA49A2E1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2560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E4A4-D809-47B0-9331-559FC90A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4292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0495-6F13-46B5-9E5F-BFC208EC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4292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88CA-C67C-46E3-B2C8-F8A03177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4292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2560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1FDC-76CB-4254-AB7D-8A1D2C71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7092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985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4292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7092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985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2403-E1EC-4256-B76F-327E6DC7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5A5D8-4312-4DE3-9102-DBCA054A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42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8228-27B6-475B-8C37-39AD60A6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E4BAE-6D8B-408D-91CE-77F2EFA3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AC11F-869E-45A5-8C81-EC484D52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B506F-8D9A-4D18-B232-6903E465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F95-4DD0-48F0-8884-5AAD378E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21C2-CA0B-4A52-84BE-9844EC10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4292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8215-E76A-4095-94C6-2A06B8BF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2560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A6FB-874D-4BFE-9936-4E6F2FA6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4292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8AE1-45B4-414E-8801-B07A61E4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04292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3D01F-5B4D-42AE-BA35-400195FE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04292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2560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B47AE-8A36-41E2-B86E-51CAA44A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67092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985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04292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67092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985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DEA0-669F-476A-BD38-FE04502F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B302A-2587-4400-B5F4-A563B93A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2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43B91-A07C-4F9D-9B97-01D3F6AA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8C065-208C-4457-99BC-19E28E1A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5DE-F061-45F0-9465-2A87BD87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B6817-9ABB-46E6-B943-AFFE0EDF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42598-9E16-4A19-9C50-278BB1A1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A6ED0-559F-4E13-ACD8-D3A3FAF6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292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4728-C602-4250-9AEC-9C558BFC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2560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0D47-4F1A-4181-8DEC-7E3E851F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292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2CAC7-AA9E-40A9-A59A-8D6F688D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292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2592-D3EC-498B-ADB8-A6B54E67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292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2560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07B59-F324-45B4-BCA9-5700901B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67092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85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292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67092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985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D7191-7DF4-4D0F-8667-9F2C47FA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B66-0BC9-4DDB-A558-9AE3E082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325-5240-4DF6-9CA9-75412C7A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4292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877-D345-44C6-A8AC-7EBE539F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560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71A-2A87-4C51-A878-3BB9E189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560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92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1A7-F888-4890-9491-2A948030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42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24816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课件制作人：谢希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7F10-C1AA-4CD6-B349-B97881832832}" type="slidenum">
              <a:rPr b="0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042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624816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课件制作人：谢希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E13E-4AE5-419E-AB52-9B0CCDE159AB}" type="slidenum">
              <a:rPr b="0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0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042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435280" y="6248520"/>
            <a:ext cx="331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《</a:t>
            </a: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计算机网络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》</a:t>
            </a: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课件    制作人：谢希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313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0896-0B98-4A54-B53F-B8828ACF458B}" type="slidenum">
              <a:rPr b="0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042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5435280" y="6248520"/>
            <a:ext cx="331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《</a:t>
            </a: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计算机网络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》</a:t>
            </a: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课件    制作人：谢希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313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A964-99F7-4FCE-ADC5-F29A9C89D3FE}" type="slidenum">
              <a:rPr b="0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zlchen3@ustc.edu.c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25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计算机安全</a:t>
            </a:r>
            <a:br>
              <a:rPr sz="4400"/>
            </a:br>
            <a:r>
              <a:rPr b="0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333399"/>
                </a:solidFill>
                <a:latin typeface="Arial"/>
              </a:rPr>
              <a:t>主讲老师：陈志立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333399"/>
                </a:solidFill>
                <a:latin typeface="Arial"/>
              </a:rPr>
              <a:t>软件工程学院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333399"/>
                </a:solidFill>
                <a:latin typeface="Arial"/>
              </a:rPr>
              <a:t>密码与网络安全系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课程简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4292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课程成绩：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考试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%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时成绩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0%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平时成绩：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课后作业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课题提问、课堂讨论等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作业提交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周交一次，周一上课之前收上一周的作业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课程学习重在对计算机安全的基本概念、基本原理和基本技能的理解和掌握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教材与参考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4292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教材：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iam Stallings, Lawrie Brown. Computer Security: Principles and Practice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ourth E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Pearson Education, 201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主要参考书：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教材：威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斯托林斯，劳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布朗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贾春福，高敏芬等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计算机安全：原理与实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机械工业出版社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1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刘建伟，王育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网络安全—技术与实践（第三版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清华大学出版社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1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教师自我介绍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4292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陈志立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邮箱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zhlchen@sei.ecnu.edu.c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研究方向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：隐私计算、安全联邦学习、安全多方计算、差分隐私、信息隐藏等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2:35:10Z</dcterms:created>
  <dc:creator>XXR</dc:creator>
  <dc:description/>
  <dc:language>en-US</dc:language>
  <cp:lastModifiedBy>Administrator</cp:lastModifiedBy>
  <dcterms:modified xsi:type="dcterms:W3CDTF">2024-02-25T14:02:16Z</dcterms:modified>
  <cp:revision>299</cp:revision>
  <dc:subject/>
  <dc:title>计算机网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04AAD9F0652941B6BE95877AF8C047FF</vt:lpwstr>
  </property>
  <property fmtid="{D5CDD505-2E9C-101B-9397-08002B2CF9AE}" pid="3" name="KSOProductBuildVer">
    <vt:lpwstr>2052-11.1.0.13703</vt:lpwstr>
  </property>
</Properties>
</file>